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492-353D-49D6-9FEC-5286FDD2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39A-70A0-454F-9043-06C8B76F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C55-DE09-4455-8963-01CE8E5A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506-4D5C-4BA8-BCAE-61A779F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956-BC7B-4A3F-BE6C-C782113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509-25D8-4463-9AB1-D39E56AE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C59-DA8E-47A0-88B5-1EB537AF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580-90D2-432F-A837-C6AD933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D35-6C8A-4B84-B64A-32DA2EE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2CE-0199-4347-AE97-B1DEF2F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F91-A671-497E-B439-BDACC5E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E2E-F392-4C6A-B9DE-8035385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013-DF56-469A-A664-F3978F7A2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03680" y="152280"/>
            <a:ext cx="300204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3600" y="4724280"/>
            <a:ext cx="3183120" cy="417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49600" y="4673520"/>
            <a:ext cx="3040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7332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00280" y="76320"/>
            <a:ext cx="328140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75160" y="4724280"/>
            <a:ext cx="297792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04920" y="54864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6280" y="59040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2743200" cy="403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632040" y="4648320"/>
            <a:ext cx="2997360" cy="449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724280"/>
            <a:ext cx="3205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480" y="1522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152280"/>
            <a:ext cx="3198960" cy="426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7920" y="4648320"/>
            <a:ext cx="3263760" cy="4495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5720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7480" y="0"/>
            <a:ext cx="326520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05320" y="66600"/>
            <a:ext cx="3265200" cy="4353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2857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375000" cy="41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3260880" cy="416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9040" y="152280"/>
            <a:ext cx="2843280" cy="426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3365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4800600"/>
            <a:ext cx="332100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2946600" cy="441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8600"/>
            <a:ext cx="2857680" cy="429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670200" y="4724280"/>
            <a:ext cx="2882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3352680" cy="419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00360" y="0"/>
            <a:ext cx="3029040" cy="445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5680" y="464832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48240" y="464832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2857680" cy="394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48240" y="152280"/>
            <a:ext cx="3057480" cy="409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3375000" cy="426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2080" y="5029200"/>
            <a:ext cx="3355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441520" cy="426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81280" y="76320"/>
            <a:ext cx="3000600" cy="449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280" y="4800600"/>
            <a:ext cx="314028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0" y="4686480"/>
            <a:ext cx="22194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318636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6680" y="4630680"/>
            <a:ext cx="2957400" cy="443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95600" y="4876920"/>
            <a:ext cx="3362400" cy="3962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486240" y="763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3191040" cy="428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520" y="4572000"/>
            <a:ext cx="3094200" cy="457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57600" y="76320"/>
            <a:ext cx="2755800" cy="434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348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21040" y="76320"/>
            <a:ext cx="288468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3333600" cy="363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29160" y="4648320"/>
            <a:ext cx="2923920" cy="43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228600"/>
            <a:ext cx="2427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09-02-10T19:06:46Z</dcterms:modified>
  <cp:revision>8</cp:revision>
  <dc:subject/>
  <dc:title>Slide 1</dc:title>
</cp:coreProperties>
</file>